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5EC-6E17-431E-AD20-486C7C0F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CFA-DE04-4F3F-BF9A-9EAF8435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802-B7E6-44D6-857C-8E2CD06A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EDB-31AC-4884-9E8C-B446E7DA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D29-63C8-4EA8-9A08-500F74FE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3AD-842E-4E81-99A1-36C17AC0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041-8E3C-4BE8-9E49-4879E0D4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D97-B15B-4B37-A98F-BF21D535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DB8-3D80-4D8F-9FDD-EF9420F4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F0B0-32F4-495F-AABC-CEB97BD8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233E-E308-415A-AE38-2F44721D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714-5E77-4963-B103-8071599F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DA3A-3E94-44B4-A51E-890BAF818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685800"/>
            <a:ext cx="7848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993366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 Condensed"/>
              </a:rPr>
              <a:t>Probation Officer</a:t>
            </a:r>
            <a:endParaRPr b="0" lang="en-US" sz="4000" spc="1" strike="noStrike">
              <a:ln w="28440">
                <a:solidFill>
                  <a:srgbClr val="993366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 Condensed"/>
              <a:ea typeface="Gill Sans Ultra Bold Condensed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86200" y="3276720"/>
            <a:ext cx="464832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993366"/>
                  </a:solidFill>
                  <a:miter/>
                </a:ln>
                <a:solidFill>
                  <a:srgbClr val="ffff99"/>
                </a:solidFill>
                <a:latin typeface="Berlin Sans FB Demi"/>
              </a:rPr>
              <a:t>By: Marissa Hartman</a:t>
            </a:r>
            <a:endParaRPr b="0" lang="en-US" sz="2400" spc="1" strike="noStrike">
              <a:ln w="28440">
                <a:solidFill>
                  <a:srgbClr val="993366"/>
                </a:solidFill>
                <a:miter/>
              </a:ln>
              <a:solidFill>
                <a:srgbClr val="ffff99"/>
              </a:solid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1600200"/>
            <a:ext cx="8458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cc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ccupational Info</a:t>
            </a:r>
            <a:endParaRPr b="0" lang="en-US" sz="2400" spc="1" strike="noStrike">
              <a:ln w="28440">
                <a:solidFill>
                  <a:srgbClr val="ffcc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152280"/>
            <a:ext cx="7848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ozuka Gothic Pro L"/>
              </a:rPr>
              <a:t>RESPONSIBILITIES</a:t>
            </a:r>
            <a:endParaRPr b="1" lang="en-US" sz="2400" spc="1" strike="noStrike">
              <a:ln w="28440">
                <a:solidFill>
                  <a:srgbClr val="ff0066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ozuka Gothic Pro L"/>
              <a:ea typeface="Kozuka Gothic Pro 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371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ekton Pr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ekton Pro"/>
              </a:rPr>
              <a:t>There are many responsibilities when being a probation officer.  For example, one might be on call 24 hours a day, and it is their responsibility to keep these offenders on parole or probation under control and in ch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2819520"/>
            <a:ext cx="7543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99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ozuka Gothic Pro L"/>
              </a:rPr>
              <a:t>JOB REQUIREMENTS</a:t>
            </a:r>
            <a:endParaRPr b="1" lang="en-US" sz="2400" spc="1" strike="noStrike">
              <a:ln w="28440">
                <a:solidFill>
                  <a:srgbClr val="ffff99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ozuka Gothic Pro L"/>
              <a:ea typeface="Kozuka Gothic Pro 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886200"/>
            <a:ext cx="8001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kton Pro"/>
                <a:ea typeface="Times New Roman"/>
              </a:rPr>
              <a:t>To work as a probation officer one must have the fo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kton Pro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have a high school diploma or GED; 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ekton Pro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have at least a bachelor's degree in criminal 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 justice or social work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kton Pro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complete a state or federal training 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ekton Pro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pass written and oral exams in 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    program; 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most stat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kton Pro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be at least 21 years old; 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ekton Pro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be in good physical and emotional condition; 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kton Pro"/>
              </a:rPr>
              <a:t> and pass a criminal background che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04920" y="228600"/>
            <a:ext cx="8686440" cy="6400800"/>
            <a:chOff x="304920" y="228600"/>
            <a:chExt cx="8686440" cy="6400800"/>
          </a:xfrm>
        </p:grpSpPr>
        <p:grpSp>
          <p:nvGrpSpPr>
            <p:cNvPr id="49" name=""/>
            <p:cNvGrpSpPr/>
            <p:nvPr/>
          </p:nvGrpSpPr>
          <p:grpSpPr>
            <a:xfrm>
              <a:off x="309960" y="230400"/>
              <a:ext cx="8675280" cy="6396840"/>
              <a:chOff x="309960" y="230400"/>
              <a:chExt cx="8675280" cy="63968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309960" y="230400"/>
                <a:ext cx="1778040" cy="474840"/>
                <a:chOff x="309960" y="230400"/>
                <a:chExt cx="1778040" cy="47484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09960" y="23040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" name=""/>
                <p:cNvGrpSpPr/>
                <p:nvPr/>
              </p:nvGrpSpPr>
              <p:grpSpPr>
                <a:xfrm>
                  <a:off x="309960" y="230400"/>
                  <a:ext cx="1777680" cy="474840"/>
                  <a:chOff x="309960" y="230400"/>
                  <a:chExt cx="1777680" cy="47484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330840" y="23796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Locati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309960" y="23040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" name=""/>
              <p:cNvGrpSpPr/>
              <p:nvPr/>
            </p:nvGrpSpPr>
            <p:grpSpPr>
              <a:xfrm>
                <a:off x="2088360" y="230400"/>
                <a:ext cx="1437840" cy="474840"/>
                <a:chOff x="2088360" y="230400"/>
                <a:chExt cx="1437840" cy="47484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2088360" y="230400"/>
                  <a:ext cx="14378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" name=""/>
                <p:cNvGrpSpPr/>
                <p:nvPr/>
              </p:nvGrpSpPr>
              <p:grpSpPr>
                <a:xfrm>
                  <a:off x="2088360" y="230400"/>
                  <a:ext cx="1437480" cy="474840"/>
                  <a:chOff x="2088360" y="230400"/>
                  <a:chExt cx="1437480" cy="47484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>
                    <a:off x="2109240" y="237960"/>
                    <a:ext cx="13957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ay Perio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088360" y="230400"/>
                    <a:ext cx="14374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" name=""/>
              <p:cNvGrpSpPr/>
              <p:nvPr/>
            </p:nvGrpSpPr>
            <p:grpSpPr>
              <a:xfrm>
                <a:off x="3526920" y="230400"/>
                <a:ext cx="5458320" cy="261000"/>
                <a:chOff x="3526920" y="230400"/>
                <a:chExt cx="5458320" cy="2610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526920" y="230400"/>
                  <a:ext cx="545832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3526920" y="230400"/>
                  <a:ext cx="5457960" cy="229320"/>
                  <a:chOff x="3526920" y="230400"/>
                  <a:chExt cx="5457960" cy="2293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3547800" y="237960"/>
                    <a:ext cx="5416200" cy="21348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3526920" y="230400"/>
                    <a:ext cx="54579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" name=""/>
              <p:cNvGrpSpPr/>
              <p:nvPr/>
            </p:nvGrpSpPr>
            <p:grpSpPr>
              <a:xfrm>
                <a:off x="3526920" y="475560"/>
                <a:ext cx="1818720" cy="261000"/>
                <a:chOff x="3526920" y="475560"/>
                <a:chExt cx="1818720" cy="2610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526920" y="475560"/>
                  <a:ext cx="181872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" name=""/>
                <p:cNvGrpSpPr/>
                <p:nvPr/>
              </p:nvGrpSpPr>
              <p:grpSpPr>
                <a:xfrm>
                  <a:off x="3526920" y="475560"/>
                  <a:ext cx="1818360" cy="229680"/>
                  <a:chOff x="3526920" y="475560"/>
                  <a:chExt cx="1818360" cy="22968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3547800" y="483120"/>
                    <a:ext cx="1776240" cy="21384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25%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526920" y="47556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" name=""/>
              <p:cNvGrpSpPr/>
              <p:nvPr/>
            </p:nvGrpSpPr>
            <p:grpSpPr>
              <a:xfrm>
                <a:off x="5346000" y="475560"/>
                <a:ext cx="1818720" cy="261000"/>
                <a:chOff x="5346000" y="475560"/>
                <a:chExt cx="1818720" cy="2610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346000" y="475560"/>
                  <a:ext cx="181872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" name=""/>
                <p:cNvGrpSpPr/>
                <p:nvPr/>
              </p:nvGrpSpPr>
              <p:grpSpPr>
                <a:xfrm>
                  <a:off x="5346000" y="475560"/>
                  <a:ext cx="1818360" cy="229680"/>
                  <a:chOff x="5346000" y="475560"/>
                  <a:chExt cx="1818360" cy="22968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5366880" y="483120"/>
                    <a:ext cx="1776240" cy="21384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a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5346000" y="47556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"/>
              <p:cNvGrpSpPr/>
              <p:nvPr/>
            </p:nvGrpSpPr>
            <p:grpSpPr>
              <a:xfrm>
                <a:off x="7165080" y="475560"/>
                <a:ext cx="1820160" cy="261000"/>
                <a:chOff x="7165080" y="475560"/>
                <a:chExt cx="1820160" cy="261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7165080" y="475560"/>
                  <a:ext cx="182016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" name=""/>
                <p:cNvGrpSpPr/>
                <p:nvPr/>
              </p:nvGrpSpPr>
              <p:grpSpPr>
                <a:xfrm>
                  <a:off x="7165080" y="475560"/>
                  <a:ext cx="1819800" cy="229680"/>
                  <a:chOff x="7165080" y="475560"/>
                  <a:chExt cx="1819800" cy="22968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7185960" y="483120"/>
                    <a:ext cx="1778040" cy="21384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75%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165080" y="475560"/>
                    <a:ext cx="181980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" name=""/>
              <p:cNvGrpSpPr/>
              <p:nvPr/>
            </p:nvGrpSpPr>
            <p:grpSpPr>
              <a:xfrm>
                <a:off x="309960" y="721080"/>
                <a:ext cx="1778040" cy="474840"/>
                <a:chOff x="309960" y="721080"/>
                <a:chExt cx="1778040" cy="4748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09960" y="72108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309960" y="721080"/>
                  <a:ext cx="1777680" cy="474840"/>
                  <a:chOff x="309960" y="721080"/>
                  <a:chExt cx="1777680" cy="47484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330840" y="72864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Ohi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309960" y="72108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5" name=""/>
              <p:cNvGrpSpPr/>
              <p:nvPr/>
            </p:nvGrpSpPr>
            <p:grpSpPr>
              <a:xfrm>
                <a:off x="2088360" y="721080"/>
                <a:ext cx="1437840" cy="261000"/>
                <a:chOff x="2088360" y="721080"/>
                <a:chExt cx="1437840" cy="2610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088360" y="72108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" name=""/>
                <p:cNvGrpSpPr/>
                <p:nvPr/>
              </p:nvGrpSpPr>
              <p:grpSpPr>
                <a:xfrm>
                  <a:off x="2088360" y="721080"/>
                  <a:ext cx="1437480" cy="229320"/>
                  <a:chOff x="2088360" y="721080"/>
                  <a:chExt cx="1437480" cy="22932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>
                    <a:off x="2109240" y="728640"/>
                    <a:ext cx="139572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2088360" y="72108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" name=""/>
              <p:cNvGrpSpPr/>
              <p:nvPr/>
            </p:nvGrpSpPr>
            <p:grpSpPr>
              <a:xfrm>
                <a:off x="3526920" y="721080"/>
                <a:ext cx="1818720" cy="261000"/>
                <a:chOff x="3526920" y="721080"/>
                <a:chExt cx="1818720" cy="2610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3526920" y="72108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3526920" y="721080"/>
                  <a:ext cx="1818360" cy="229320"/>
                  <a:chOff x="3526920" y="721080"/>
                  <a:chExt cx="1818360" cy="229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3547800" y="72864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8.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3526920" y="72108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" name=""/>
              <p:cNvGrpSpPr/>
              <p:nvPr/>
            </p:nvGrpSpPr>
            <p:grpSpPr>
              <a:xfrm>
                <a:off x="5346000" y="721080"/>
                <a:ext cx="1818720" cy="261000"/>
                <a:chOff x="5346000" y="721080"/>
                <a:chExt cx="1818720" cy="2610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346000" y="72108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"/>
                <p:cNvGrpSpPr/>
                <p:nvPr/>
              </p:nvGrpSpPr>
              <p:grpSpPr>
                <a:xfrm>
                  <a:off x="5346000" y="721080"/>
                  <a:ext cx="1818360" cy="229320"/>
                  <a:chOff x="5346000" y="721080"/>
                  <a:chExt cx="1818360" cy="2293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5366880" y="72864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2.1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5346000" y="72108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7165080" y="721080"/>
                <a:ext cx="1820160" cy="261000"/>
                <a:chOff x="7165080" y="721080"/>
                <a:chExt cx="1820160" cy="2610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165080" y="72108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7165080" y="721080"/>
                  <a:ext cx="1819800" cy="229320"/>
                  <a:chOff x="7165080" y="721080"/>
                  <a:chExt cx="1819800" cy="22932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185960" y="728640"/>
                    <a:ext cx="17780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6.1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7165080" y="72108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2088360" y="966600"/>
                <a:ext cx="1437840" cy="261000"/>
                <a:chOff x="2088360" y="966600"/>
                <a:chExt cx="1437840" cy="261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088360" y="96660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2088360" y="966600"/>
                  <a:ext cx="1437480" cy="229320"/>
                  <a:chOff x="2088360" y="966600"/>
                  <a:chExt cx="1437480" cy="22932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109240" y="974160"/>
                    <a:ext cx="139572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088360" y="96660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0" name=""/>
              <p:cNvGrpSpPr/>
              <p:nvPr/>
            </p:nvGrpSpPr>
            <p:grpSpPr>
              <a:xfrm>
                <a:off x="3526920" y="966600"/>
                <a:ext cx="1818720" cy="261000"/>
                <a:chOff x="3526920" y="966600"/>
                <a:chExt cx="1818720" cy="2610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526920" y="96660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" name=""/>
                <p:cNvGrpSpPr/>
                <p:nvPr/>
              </p:nvGrpSpPr>
              <p:grpSpPr>
                <a:xfrm>
                  <a:off x="3526920" y="966600"/>
                  <a:ext cx="1818360" cy="229320"/>
                  <a:chOff x="3526920" y="966600"/>
                  <a:chExt cx="1818360" cy="2293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3547800" y="97416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7,44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3526920" y="96660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" name=""/>
              <p:cNvGrpSpPr/>
              <p:nvPr/>
            </p:nvGrpSpPr>
            <p:grpSpPr>
              <a:xfrm>
                <a:off x="5346000" y="966600"/>
                <a:ext cx="1818720" cy="261000"/>
                <a:chOff x="5346000" y="966600"/>
                <a:chExt cx="1818720" cy="2610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346000" y="96660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5346000" y="966600"/>
                  <a:ext cx="1818360" cy="229320"/>
                  <a:chOff x="5346000" y="966600"/>
                  <a:chExt cx="1818360" cy="2293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5366880" y="97416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ff0066"/>
                        </a:solidFill>
                        <a:latin typeface="Verdana"/>
                        <a:ea typeface="Times New Roman"/>
                      </a:rPr>
                      <a:t>$46,09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5346000" y="96660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7165080" y="966600"/>
                <a:ext cx="1820160" cy="261000"/>
                <a:chOff x="7165080" y="966600"/>
                <a:chExt cx="1820160" cy="2610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165080" y="96660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7165080" y="966600"/>
                  <a:ext cx="1819800" cy="229320"/>
                  <a:chOff x="7165080" y="966600"/>
                  <a:chExt cx="1819800" cy="22932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7185960" y="974160"/>
                    <a:ext cx="17780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4,48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165080" y="96660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" name=""/>
              <p:cNvGrpSpPr/>
              <p:nvPr/>
            </p:nvGrpSpPr>
            <p:grpSpPr>
              <a:xfrm>
                <a:off x="309960" y="1212120"/>
                <a:ext cx="1778040" cy="474840"/>
                <a:chOff x="309960" y="1212120"/>
                <a:chExt cx="1778040" cy="4748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09960" y="121212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309960" y="1212120"/>
                  <a:ext cx="1777680" cy="474840"/>
                  <a:chOff x="309960" y="1212120"/>
                  <a:chExt cx="1777680" cy="4748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330840" y="121968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Akr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09960" y="121212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0" name=""/>
              <p:cNvGrpSpPr/>
              <p:nvPr/>
            </p:nvGrpSpPr>
            <p:grpSpPr>
              <a:xfrm>
                <a:off x="2088360" y="1212120"/>
                <a:ext cx="1437840" cy="261000"/>
                <a:chOff x="2088360" y="1212120"/>
                <a:chExt cx="1437840" cy="261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088360" y="121212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2088360" y="1212120"/>
                  <a:ext cx="1437480" cy="229320"/>
                  <a:chOff x="2088360" y="1212120"/>
                  <a:chExt cx="1437480" cy="22932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2109240" y="1219680"/>
                    <a:ext cx="139572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2088360" y="121212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5" name=""/>
              <p:cNvGrpSpPr/>
              <p:nvPr/>
            </p:nvGrpSpPr>
            <p:grpSpPr>
              <a:xfrm>
                <a:off x="3526920" y="1212120"/>
                <a:ext cx="1818720" cy="261000"/>
                <a:chOff x="3526920" y="1212120"/>
                <a:chExt cx="1818720" cy="2610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526920" y="121212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" name=""/>
                <p:cNvGrpSpPr/>
                <p:nvPr/>
              </p:nvGrpSpPr>
              <p:grpSpPr>
                <a:xfrm>
                  <a:off x="3526920" y="1212120"/>
                  <a:ext cx="1818360" cy="229320"/>
                  <a:chOff x="3526920" y="1212120"/>
                  <a:chExt cx="1818360" cy="22932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3547800" y="121968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8.6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3526920" y="12121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0" name=""/>
              <p:cNvGrpSpPr/>
              <p:nvPr/>
            </p:nvGrpSpPr>
            <p:grpSpPr>
              <a:xfrm>
                <a:off x="5346000" y="1212120"/>
                <a:ext cx="1818720" cy="261000"/>
                <a:chOff x="5346000" y="1212120"/>
                <a:chExt cx="1818720" cy="261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346000" y="121212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" name=""/>
                <p:cNvGrpSpPr/>
                <p:nvPr/>
              </p:nvGrpSpPr>
              <p:grpSpPr>
                <a:xfrm>
                  <a:off x="5346000" y="1212120"/>
                  <a:ext cx="1818360" cy="229320"/>
                  <a:chOff x="5346000" y="1212120"/>
                  <a:chExt cx="1818360" cy="2293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5366880" y="121968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2.25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5346000" y="12121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5" name=""/>
              <p:cNvGrpSpPr/>
              <p:nvPr/>
            </p:nvGrpSpPr>
            <p:grpSpPr>
              <a:xfrm>
                <a:off x="7165080" y="1212120"/>
                <a:ext cx="1820160" cy="261000"/>
                <a:chOff x="7165080" y="1212120"/>
                <a:chExt cx="1820160" cy="2610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165080" y="121212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" name=""/>
                <p:cNvGrpSpPr/>
                <p:nvPr/>
              </p:nvGrpSpPr>
              <p:grpSpPr>
                <a:xfrm>
                  <a:off x="7165080" y="1212120"/>
                  <a:ext cx="1819800" cy="229320"/>
                  <a:chOff x="7165080" y="1212120"/>
                  <a:chExt cx="1819800" cy="2293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7185960" y="1219680"/>
                    <a:ext cx="17780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6.3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7165080" y="121212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2088360" y="1457280"/>
                <a:ext cx="1437840" cy="261000"/>
                <a:chOff x="2088360" y="1457280"/>
                <a:chExt cx="1437840" cy="261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088360" y="145728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2088360" y="1457280"/>
                  <a:ext cx="1437480" cy="229680"/>
                  <a:chOff x="2088360" y="1457280"/>
                  <a:chExt cx="1437480" cy="2296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2109240" y="1464840"/>
                    <a:ext cx="139572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088360" y="1457280"/>
                    <a:ext cx="143748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5" name=""/>
              <p:cNvGrpSpPr/>
              <p:nvPr/>
            </p:nvGrpSpPr>
            <p:grpSpPr>
              <a:xfrm>
                <a:off x="3526920" y="1457280"/>
                <a:ext cx="1818720" cy="261000"/>
                <a:chOff x="3526920" y="1457280"/>
                <a:chExt cx="1818720" cy="261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526920" y="145728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"/>
                <p:cNvGrpSpPr/>
                <p:nvPr/>
              </p:nvGrpSpPr>
              <p:grpSpPr>
                <a:xfrm>
                  <a:off x="3526920" y="1457280"/>
                  <a:ext cx="1818360" cy="229680"/>
                  <a:chOff x="3526920" y="1457280"/>
                  <a:chExt cx="1818360" cy="22968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3547800" y="1464840"/>
                    <a:ext cx="17762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8,8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526920" y="145728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0" name=""/>
              <p:cNvGrpSpPr/>
              <p:nvPr/>
            </p:nvGrpSpPr>
            <p:grpSpPr>
              <a:xfrm>
                <a:off x="5346000" y="1457280"/>
                <a:ext cx="1818720" cy="261000"/>
                <a:chOff x="5346000" y="1457280"/>
                <a:chExt cx="1818720" cy="2610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346000" y="145728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5346000" y="1457280"/>
                  <a:ext cx="1818360" cy="229680"/>
                  <a:chOff x="5346000" y="1457280"/>
                  <a:chExt cx="1818360" cy="2296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5366880" y="1464840"/>
                    <a:ext cx="17762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6,28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5346000" y="145728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5" name=""/>
              <p:cNvGrpSpPr/>
              <p:nvPr/>
            </p:nvGrpSpPr>
            <p:grpSpPr>
              <a:xfrm>
                <a:off x="7165080" y="1457280"/>
                <a:ext cx="1820160" cy="261000"/>
                <a:chOff x="7165080" y="1457280"/>
                <a:chExt cx="1820160" cy="261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165080" y="145728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7165080" y="1457280"/>
                  <a:ext cx="1819800" cy="229680"/>
                  <a:chOff x="7165080" y="1457280"/>
                  <a:chExt cx="1819800" cy="2296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7185960" y="1464840"/>
                    <a:ext cx="17780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4,72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165080" y="1457280"/>
                    <a:ext cx="181980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0" name=""/>
              <p:cNvGrpSpPr/>
              <p:nvPr/>
            </p:nvGrpSpPr>
            <p:grpSpPr>
              <a:xfrm>
                <a:off x="309960" y="1702800"/>
                <a:ext cx="1778040" cy="474840"/>
                <a:chOff x="309960" y="1702800"/>
                <a:chExt cx="1778040" cy="4748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09960" y="170280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309960" y="1702800"/>
                  <a:ext cx="1777680" cy="474840"/>
                  <a:chOff x="309960" y="1702800"/>
                  <a:chExt cx="1777680" cy="47484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330840" y="171036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Cant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309960" y="170280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5" name=""/>
              <p:cNvGrpSpPr/>
              <p:nvPr/>
            </p:nvGrpSpPr>
            <p:grpSpPr>
              <a:xfrm>
                <a:off x="2088360" y="1702800"/>
                <a:ext cx="1437840" cy="261000"/>
                <a:chOff x="2088360" y="1702800"/>
                <a:chExt cx="1437840" cy="2610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088360" y="170280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2088360" y="1702800"/>
                  <a:ext cx="1437480" cy="229680"/>
                  <a:chOff x="2088360" y="1702800"/>
                  <a:chExt cx="1437480" cy="2296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2109240" y="1710360"/>
                    <a:ext cx="139572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2088360" y="1702800"/>
                    <a:ext cx="143748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0" name=""/>
              <p:cNvGrpSpPr/>
              <p:nvPr/>
            </p:nvGrpSpPr>
            <p:grpSpPr>
              <a:xfrm>
                <a:off x="3526920" y="1702800"/>
                <a:ext cx="1818720" cy="261000"/>
                <a:chOff x="3526920" y="1702800"/>
                <a:chExt cx="1818720" cy="2610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526920" y="170280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3526920" y="1702800"/>
                  <a:ext cx="1818360" cy="229680"/>
                  <a:chOff x="3526920" y="1702800"/>
                  <a:chExt cx="1818360" cy="2296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547800" y="171036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8.68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526920" y="170280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5346000" y="1702800"/>
                <a:ext cx="1818720" cy="261000"/>
                <a:chOff x="5346000" y="1702800"/>
                <a:chExt cx="1818720" cy="261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346000" y="170280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5346000" y="1702800"/>
                  <a:ext cx="1818360" cy="229680"/>
                  <a:chOff x="5346000" y="1702800"/>
                  <a:chExt cx="1818360" cy="2296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366880" y="171036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2.55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346000" y="170280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0" name=""/>
              <p:cNvGrpSpPr/>
              <p:nvPr/>
            </p:nvGrpSpPr>
            <p:grpSpPr>
              <a:xfrm>
                <a:off x="7165080" y="1702800"/>
                <a:ext cx="1820160" cy="261000"/>
                <a:chOff x="7165080" y="1702800"/>
                <a:chExt cx="1820160" cy="2610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7165080" y="170280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" name=""/>
                <p:cNvGrpSpPr/>
                <p:nvPr/>
              </p:nvGrpSpPr>
              <p:grpSpPr>
                <a:xfrm>
                  <a:off x="7165080" y="1702800"/>
                  <a:ext cx="1819800" cy="229680"/>
                  <a:chOff x="7165080" y="1702800"/>
                  <a:chExt cx="1819800" cy="2296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7185960" y="1710360"/>
                    <a:ext cx="17780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6.1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165080" y="1702800"/>
                    <a:ext cx="181980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5" name=""/>
              <p:cNvGrpSpPr/>
              <p:nvPr/>
            </p:nvGrpSpPr>
            <p:grpSpPr>
              <a:xfrm>
                <a:off x="2088360" y="1948320"/>
                <a:ext cx="1437840" cy="261000"/>
                <a:chOff x="2088360" y="1948320"/>
                <a:chExt cx="1437840" cy="261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088360" y="194832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2088360" y="1948320"/>
                  <a:ext cx="1437480" cy="229320"/>
                  <a:chOff x="2088360" y="1948320"/>
                  <a:chExt cx="1437480" cy="22932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2109240" y="1955880"/>
                    <a:ext cx="139572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088360" y="194832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3526920" y="1948320"/>
                <a:ext cx="1818720" cy="261000"/>
                <a:chOff x="3526920" y="1948320"/>
                <a:chExt cx="1818720" cy="261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526920" y="194832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3526920" y="1948320"/>
                  <a:ext cx="1818360" cy="229320"/>
                  <a:chOff x="3526920" y="1948320"/>
                  <a:chExt cx="1818360" cy="2293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3547800" y="195588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8,85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526920" y="19483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5346000" y="1948320"/>
                <a:ext cx="1818720" cy="261000"/>
                <a:chOff x="5346000" y="1948320"/>
                <a:chExt cx="1818720" cy="261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46000" y="194832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5346000" y="1948320"/>
                  <a:ext cx="1818360" cy="229320"/>
                  <a:chOff x="5346000" y="1948320"/>
                  <a:chExt cx="1818360" cy="22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5366880" y="195588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6,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5346000" y="19483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" name=""/>
              <p:cNvGrpSpPr/>
              <p:nvPr/>
            </p:nvGrpSpPr>
            <p:grpSpPr>
              <a:xfrm>
                <a:off x="7165080" y="1948320"/>
                <a:ext cx="1820160" cy="261000"/>
                <a:chOff x="7165080" y="1948320"/>
                <a:chExt cx="1820160" cy="2610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165080" y="194832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" name=""/>
                <p:cNvGrpSpPr/>
                <p:nvPr/>
              </p:nvGrpSpPr>
              <p:grpSpPr>
                <a:xfrm>
                  <a:off x="7165080" y="1948320"/>
                  <a:ext cx="1819800" cy="229320"/>
                  <a:chOff x="7165080" y="1948320"/>
                  <a:chExt cx="1819800" cy="22932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7185960" y="1955880"/>
                    <a:ext cx="17780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4,48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165080" y="194832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309960" y="2193840"/>
                <a:ext cx="1778040" cy="474840"/>
                <a:chOff x="309960" y="2193840"/>
                <a:chExt cx="1778040" cy="4748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09960" y="219384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309960" y="2193840"/>
                  <a:ext cx="1777680" cy="474840"/>
                  <a:chOff x="309960" y="2193840"/>
                  <a:chExt cx="1777680" cy="47484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330840" y="220140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Cincinnati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09960" y="219384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2088360" y="2193840"/>
                <a:ext cx="1437840" cy="261000"/>
                <a:chOff x="2088360" y="2193840"/>
                <a:chExt cx="1437840" cy="2610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088360" y="219384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2088360" y="2193840"/>
                  <a:ext cx="1437480" cy="229320"/>
                  <a:chOff x="2088360" y="2193840"/>
                  <a:chExt cx="1437480" cy="22932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2109240" y="2201400"/>
                    <a:ext cx="139572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088360" y="219384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5" name=""/>
              <p:cNvGrpSpPr/>
              <p:nvPr/>
            </p:nvGrpSpPr>
            <p:grpSpPr>
              <a:xfrm>
                <a:off x="3526920" y="2193840"/>
                <a:ext cx="1818720" cy="261000"/>
                <a:chOff x="3526920" y="2193840"/>
                <a:chExt cx="1818720" cy="2610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526920" y="219384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3526920" y="2193840"/>
                  <a:ext cx="1818360" cy="229320"/>
                  <a:chOff x="3526920" y="2193840"/>
                  <a:chExt cx="1818360" cy="2293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3547800" y="220140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8.87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3526920" y="219384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0" name=""/>
              <p:cNvGrpSpPr/>
              <p:nvPr/>
            </p:nvGrpSpPr>
            <p:grpSpPr>
              <a:xfrm>
                <a:off x="5346000" y="2193840"/>
                <a:ext cx="1818720" cy="261000"/>
                <a:chOff x="5346000" y="2193840"/>
                <a:chExt cx="1818720" cy="2610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346000" y="219384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5346000" y="2193840"/>
                  <a:ext cx="1818360" cy="229320"/>
                  <a:chOff x="5346000" y="2193840"/>
                  <a:chExt cx="1818360" cy="2293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5366880" y="220140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2.3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346000" y="219384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5" name=""/>
              <p:cNvGrpSpPr/>
              <p:nvPr/>
            </p:nvGrpSpPr>
            <p:grpSpPr>
              <a:xfrm>
                <a:off x="7165080" y="2193840"/>
                <a:ext cx="1820160" cy="261000"/>
                <a:chOff x="7165080" y="2193840"/>
                <a:chExt cx="1820160" cy="2610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165080" y="219384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" name=""/>
                <p:cNvGrpSpPr/>
                <p:nvPr/>
              </p:nvGrpSpPr>
              <p:grpSpPr>
                <a:xfrm>
                  <a:off x="7165080" y="2193840"/>
                  <a:ext cx="1819800" cy="229320"/>
                  <a:chOff x="7165080" y="2193840"/>
                  <a:chExt cx="1819800" cy="22932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7185960" y="2201400"/>
                    <a:ext cx="17780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6.1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165080" y="219384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0" name=""/>
              <p:cNvGrpSpPr/>
              <p:nvPr/>
            </p:nvGrpSpPr>
            <p:grpSpPr>
              <a:xfrm>
                <a:off x="2088360" y="2439000"/>
                <a:ext cx="1437840" cy="261000"/>
                <a:chOff x="2088360" y="2439000"/>
                <a:chExt cx="1437840" cy="2610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088360" y="243900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2088360" y="2439000"/>
                  <a:ext cx="1437480" cy="229680"/>
                  <a:chOff x="2088360" y="2439000"/>
                  <a:chExt cx="1437480" cy="2296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2109240" y="2446560"/>
                    <a:ext cx="139572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088360" y="2439000"/>
                    <a:ext cx="143748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3526920" y="2439000"/>
                <a:ext cx="1818720" cy="261000"/>
                <a:chOff x="3526920" y="2439000"/>
                <a:chExt cx="1818720" cy="2610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526920" y="243900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3526920" y="2439000"/>
                  <a:ext cx="1818360" cy="229680"/>
                  <a:chOff x="3526920" y="2439000"/>
                  <a:chExt cx="1818360" cy="229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3547800" y="2446560"/>
                    <a:ext cx="17762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9,25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526920" y="243900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0" name=""/>
              <p:cNvGrpSpPr/>
              <p:nvPr/>
            </p:nvGrpSpPr>
            <p:grpSpPr>
              <a:xfrm>
                <a:off x="5346000" y="2439000"/>
                <a:ext cx="1818720" cy="261000"/>
                <a:chOff x="5346000" y="2439000"/>
                <a:chExt cx="1818720" cy="2610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5346000" y="243900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" name=""/>
                <p:cNvGrpSpPr/>
                <p:nvPr/>
              </p:nvGrpSpPr>
              <p:grpSpPr>
                <a:xfrm>
                  <a:off x="5346000" y="2439000"/>
                  <a:ext cx="1818360" cy="229680"/>
                  <a:chOff x="5346000" y="2439000"/>
                  <a:chExt cx="1818360" cy="22968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5366880" y="2446560"/>
                    <a:ext cx="17762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6,42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5346000" y="243900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5" name=""/>
              <p:cNvGrpSpPr/>
              <p:nvPr/>
            </p:nvGrpSpPr>
            <p:grpSpPr>
              <a:xfrm>
                <a:off x="7165080" y="2439000"/>
                <a:ext cx="1820160" cy="261000"/>
                <a:chOff x="7165080" y="2439000"/>
                <a:chExt cx="1820160" cy="2610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165080" y="243900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7165080" y="2439000"/>
                  <a:ext cx="1819800" cy="229680"/>
                  <a:chOff x="7165080" y="2439000"/>
                  <a:chExt cx="1819800" cy="22968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7185960" y="2446560"/>
                    <a:ext cx="17780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4,29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7165080" y="2439000"/>
                    <a:ext cx="181980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0" name=""/>
              <p:cNvGrpSpPr/>
              <p:nvPr/>
            </p:nvGrpSpPr>
            <p:grpSpPr>
              <a:xfrm>
                <a:off x="309960" y="2684520"/>
                <a:ext cx="1778040" cy="474840"/>
                <a:chOff x="309960" y="2684520"/>
                <a:chExt cx="1778040" cy="4748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09960" y="268452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" name=""/>
                <p:cNvGrpSpPr/>
                <p:nvPr/>
              </p:nvGrpSpPr>
              <p:grpSpPr>
                <a:xfrm>
                  <a:off x="309960" y="2684520"/>
                  <a:ext cx="1777680" cy="474840"/>
                  <a:chOff x="309960" y="2684520"/>
                  <a:chExt cx="1777680" cy="47484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330840" y="269208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Clevela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09960" y="268452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5" name=""/>
              <p:cNvGrpSpPr/>
              <p:nvPr/>
            </p:nvGrpSpPr>
            <p:grpSpPr>
              <a:xfrm>
                <a:off x="2088360" y="2684520"/>
                <a:ext cx="1437840" cy="261000"/>
                <a:chOff x="2088360" y="2684520"/>
                <a:chExt cx="1437840" cy="26100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2088360" y="268452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2088360" y="2684520"/>
                  <a:ext cx="1437480" cy="229680"/>
                  <a:chOff x="2088360" y="2684520"/>
                  <a:chExt cx="1437480" cy="22968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2109240" y="2692080"/>
                    <a:ext cx="139572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88360" y="2684520"/>
                    <a:ext cx="143748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0" name=""/>
              <p:cNvGrpSpPr/>
              <p:nvPr/>
            </p:nvGrpSpPr>
            <p:grpSpPr>
              <a:xfrm>
                <a:off x="3526920" y="2684520"/>
                <a:ext cx="1818720" cy="261000"/>
                <a:chOff x="3526920" y="2684520"/>
                <a:chExt cx="1818720" cy="2610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526920" y="268452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3526920" y="2684520"/>
                  <a:ext cx="1818360" cy="229680"/>
                  <a:chOff x="3526920" y="2684520"/>
                  <a:chExt cx="1818360" cy="22968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3547800" y="269208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9.08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3526920" y="268452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" name=""/>
              <p:cNvGrpSpPr/>
              <p:nvPr/>
            </p:nvGrpSpPr>
            <p:grpSpPr>
              <a:xfrm>
                <a:off x="5346000" y="2684520"/>
                <a:ext cx="1818720" cy="261000"/>
                <a:chOff x="5346000" y="2684520"/>
                <a:chExt cx="1818720" cy="2610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346000" y="268452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" name=""/>
                <p:cNvGrpSpPr/>
                <p:nvPr/>
              </p:nvGrpSpPr>
              <p:grpSpPr>
                <a:xfrm>
                  <a:off x="5346000" y="2684520"/>
                  <a:ext cx="1818360" cy="229680"/>
                  <a:chOff x="5346000" y="2684520"/>
                  <a:chExt cx="1818360" cy="2296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5366880" y="269208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4.0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346000" y="268452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0" name=""/>
              <p:cNvGrpSpPr/>
              <p:nvPr/>
            </p:nvGrpSpPr>
            <p:grpSpPr>
              <a:xfrm>
                <a:off x="7165080" y="2684520"/>
                <a:ext cx="1820160" cy="261000"/>
                <a:chOff x="7165080" y="2684520"/>
                <a:chExt cx="1820160" cy="261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165080" y="268452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7165080" y="2684520"/>
                  <a:ext cx="1819800" cy="229680"/>
                  <a:chOff x="7165080" y="2684520"/>
                  <a:chExt cx="1819800" cy="22968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7185960" y="2692080"/>
                    <a:ext cx="17780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6.4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165080" y="2684520"/>
                    <a:ext cx="181980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5" name=""/>
              <p:cNvGrpSpPr/>
              <p:nvPr/>
            </p:nvGrpSpPr>
            <p:grpSpPr>
              <a:xfrm>
                <a:off x="2088360" y="2930040"/>
                <a:ext cx="1437840" cy="261000"/>
                <a:chOff x="2088360" y="2930040"/>
                <a:chExt cx="1437840" cy="26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088360" y="293004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" name=""/>
                <p:cNvGrpSpPr/>
                <p:nvPr/>
              </p:nvGrpSpPr>
              <p:grpSpPr>
                <a:xfrm>
                  <a:off x="2088360" y="2930040"/>
                  <a:ext cx="1437480" cy="229320"/>
                  <a:chOff x="2088360" y="2930040"/>
                  <a:chExt cx="1437480" cy="22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2109240" y="2937600"/>
                    <a:ext cx="139572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088360" y="293004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0" name=""/>
              <p:cNvGrpSpPr/>
              <p:nvPr/>
            </p:nvGrpSpPr>
            <p:grpSpPr>
              <a:xfrm>
                <a:off x="3526920" y="2930040"/>
                <a:ext cx="1818720" cy="261000"/>
                <a:chOff x="3526920" y="2930040"/>
                <a:chExt cx="1818720" cy="261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526920" y="293004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3526920" y="2930040"/>
                  <a:ext cx="1818360" cy="229320"/>
                  <a:chOff x="3526920" y="2930040"/>
                  <a:chExt cx="1818360" cy="22932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3547800" y="293760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9,69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526920" y="293004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5346000" y="2930040"/>
                <a:ext cx="1818720" cy="261000"/>
                <a:chOff x="5346000" y="2930040"/>
                <a:chExt cx="1818720" cy="2610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5346000" y="293004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" name=""/>
                <p:cNvGrpSpPr/>
                <p:nvPr/>
              </p:nvGrpSpPr>
              <p:grpSpPr>
                <a:xfrm>
                  <a:off x="5346000" y="2930040"/>
                  <a:ext cx="1818360" cy="229320"/>
                  <a:chOff x="5346000" y="2930040"/>
                  <a:chExt cx="1818360" cy="22932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5366880" y="293760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9,95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346000" y="293004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" name=""/>
              <p:cNvGrpSpPr/>
              <p:nvPr/>
            </p:nvGrpSpPr>
            <p:grpSpPr>
              <a:xfrm>
                <a:off x="7165080" y="2930040"/>
                <a:ext cx="1820160" cy="261000"/>
                <a:chOff x="7165080" y="2930040"/>
                <a:chExt cx="1820160" cy="2610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165080" y="293004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7165080" y="2930040"/>
                  <a:ext cx="1819800" cy="229320"/>
                  <a:chOff x="7165080" y="2930040"/>
                  <a:chExt cx="1819800" cy="22932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7185960" y="2937600"/>
                    <a:ext cx="17780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4,91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7165080" y="293004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" name=""/>
              <p:cNvGrpSpPr/>
              <p:nvPr/>
            </p:nvGrpSpPr>
            <p:grpSpPr>
              <a:xfrm>
                <a:off x="309960" y="3175560"/>
                <a:ext cx="1778040" cy="474840"/>
                <a:chOff x="309960" y="3175560"/>
                <a:chExt cx="1778040" cy="4748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09960" y="317556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309960" y="3175560"/>
                  <a:ext cx="1777680" cy="474840"/>
                  <a:chOff x="309960" y="3175560"/>
                  <a:chExt cx="1777680" cy="47484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330840" y="3183120"/>
                    <a:ext cx="1735920" cy="45936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Columbu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09960" y="317556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0" name=""/>
              <p:cNvGrpSpPr/>
              <p:nvPr/>
            </p:nvGrpSpPr>
            <p:grpSpPr>
              <a:xfrm>
                <a:off x="2088360" y="3175560"/>
                <a:ext cx="1437840" cy="261000"/>
                <a:chOff x="2088360" y="3175560"/>
                <a:chExt cx="1437840" cy="2610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088360" y="317556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" name=""/>
                <p:cNvGrpSpPr/>
                <p:nvPr/>
              </p:nvGrpSpPr>
              <p:grpSpPr>
                <a:xfrm>
                  <a:off x="2088360" y="3175560"/>
                  <a:ext cx="1437480" cy="229320"/>
                  <a:chOff x="2088360" y="3175560"/>
                  <a:chExt cx="1437480" cy="22932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2109240" y="3183120"/>
                    <a:ext cx="139572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088360" y="317556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5" name=""/>
              <p:cNvGrpSpPr/>
              <p:nvPr/>
            </p:nvGrpSpPr>
            <p:grpSpPr>
              <a:xfrm>
                <a:off x="3526920" y="3175560"/>
                <a:ext cx="1818720" cy="261000"/>
                <a:chOff x="3526920" y="3175560"/>
                <a:chExt cx="1818720" cy="2610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526920" y="317556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3526920" y="3175560"/>
                  <a:ext cx="1818360" cy="229320"/>
                  <a:chOff x="3526920" y="3175560"/>
                  <a:chExt cx="1818360" cy="2293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3547800" y="318312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0.1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526920" y="317556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0" name=""/>
              <p:cNvGrpSpPr/>
              <p:nvPr/>
            </p:nvGrpSpPr>
            <p:grpSpPr>
              <a:xfrm>
                <a:off x="5346000" y="3175560"/>
                <a:ext cx="1818720" cy="261000"/>
                <a:chOff x="5346000" y="3175560"/>
                <a:chExt cx="1818720" cy="26100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5346000" y="317556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5346000" y="3175560"/>
                  <a:ext cx="1818360" cy="229320"/>
                  <a:chOff x="5346000" y="3175560"/>
                  <a:chExt cx="1818360" cy="22932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5366880" y="318312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4.2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346000" y="317556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7165080" y="3175560"/>
                <a:ext cx="1820160" cy="261000"/>
                <a:chOff x="7165080" y="3175560"/>
                <a:chExt cx="1820160" cy="2610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7165080" y="317556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" name=""/>
                <p:cNvGrpSpPr/>
                <p:nvPr/>
              </p:nvGrpSpPr>
              <p:grpSpPr>
                <a:xfrm>
                  <a:off x="7165080" y="3175560"/>
                  <a:ext cx="1819800" cy="229320"/>
                  <a:chOff x="7165080" y="3175560"/>
                  <a:chExt cx="1819800" cy="22932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7185960" y="3183120"/>
                    <a:ext cx="17780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7.17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165080" y="317556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0" name=""/>
              <p:cNvGrpSpPr/>
              <p:nvPr/>
            </p:nvGrpSpPr>
            <p:grpSpPr>
              <a:xfrm>
                <a:off x="2088360" y="3420720"/>
                <a:ext cx="1437840" cy="261000"/>
                <a:chOff x="2088360" y="3420720"/>
                <a:chExt cx="1437840" cy="2610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088360" y="342072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"/>
                <p:cNvGrpSpPr/>
                <p:nvPr/>
              </p:nvGrpSpPr>
              <p:grpSpPr>
                <a:xfrm>
                  <a:off x="2088360" y="3420720"/>
                  <a:ext cx="1437480" cy="229320"/>
                  <a:chOff x="2088360" y="3420720"/>
                  <a:chExt cx="1437480" cy="2293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109240" y="3428280"/>
                    <a:ext cx="139572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088360" y="342072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5" name=""/>
              <p:cNvGrpSpPr/>
              <p:nvPr/>
            </p:nvGrpSpPr>
            <p:grpSpPr>
              <a:xfrm>
                <a:off x="3526920" y="3420720"/>
                <a:ext cx="1818720" cy="261000"/>
                <a:chOff x="3526920" y="3420720"/>
                <a:chExt cx="1818720" cy="2610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526920" y="342072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" name=""/>
                <p:cNvGrpSpPr/>
                <p:nvPr/>
              </p:nvGrpSpPr>
              <p:grpSpPr>
                <a:xfrm>
                  <a:off x="3526920" y="3420720"/>
                  <a:ext cx="1818360" cy="229320"/>
                  <a:chOff x="3526920" y="3420720"/>
                  <a:chExt cx="1818360" cy="22932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3547800" y="3428280"/>
                    <a:ext cx="17762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1,8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3526920" y="34207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" name=""/>
              <p:cNvGrpSpPr/>
              <p:nvPr/>
            </p:nvGrpSpPr>
            <p:grpSpPr>
              <a:xfrm>
                <a:off x="5346000" y="3420720"/>
                <a:ext cx="1818720" cy="261000"/>
                <a:chOff x="5346000" y="3420720"/>
                <a:chExt cx="1818720" cy="2610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5346000" y="342072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" name=""/>
                <p:cNvGrpSpPr/>
                <p:nvPr/>
              </p:nvGrpSpPr>
              <p:grpSpPr>
                <a:xfrm>
                  <a:off x="5346000" y="3420720"/>
                  <a:ext cx="1818360" cy="229320"/>
                  <a:chOff x="5346000" y="3420720"/>
                  <a:chExt cx="1818360" cy="22932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5366880" y="3428280"/>
                    <a:ext cx="17762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0,37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346000" y="34207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7165080" y="3420720"/>
                <a:ext cx="1820160" cy="261000"/>
                <a:chOff x="7165080" y="3420720"/>
                <a:chExt cx="1820160" cy="26100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7165080" y="342072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7" name=""/>
                <p:cNvGrpSpPr/>
                <p:nvPr/>
              </p:nvGrpSpPr>
              <p:grpSpPr>
                <a:xfrm>
                  <a:off x="7165080" y="3420720"/>
                  <a:ext cx="1819800" cy="229320"/>
                  <a:chOff x="7165080" y="3420720"/>
                  <a:chExt cx="1819800" cy="22932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7185960" y="3428280"/>
                    <a:ext cx="17780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6,51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165080" y="342072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09960" y="3666240"/>
                <a:ext cx="1778040" cy="474840"/>
                <a:chOff x="309960" y="3666240"/>
                <a:chExt cx="1778040" cy="4748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09960" y="366624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2" name=""/>
                <p:cNvGrpSpPr/>
                <p:nvPr/>
              </p:nvGrpSpPr>
              <p:grpSpPr>
                <a:xfrm>
                  <a:off x="309960" y="3666240"/>
                  <a:ext cx="1777680" cy="474840"/>
                  <a:chOff x="309960" y="3666240"/>
                  <a:chExt cx="1777680" cy="47484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30840" y="367380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untington-Ashla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09960" y="366624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5" name=""/>
              <p:cNvGrpSpPr/>
              <p:nvPr/>
            </p:nvGrpSpPr>
            <p:grpSpPr>
              <a:xfrm>
                <a:off x="2088360" y="3666240"/>
                <a:ext cx="1437840" cy="261000"/>
                <a:chOff x="2088360" y="3666240"/>
                <a:chExt cx="1437840" cy="2610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2088360" y="366624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" name=""/>
                <p:cNvGrpSpPr/>
                <p:nvPr/>
              </p:nvGrpSpPr>
              <p:grpSpPr>
                <a:xfrm>
                  <a:off x="2088360" y="3666240"/>
                  <a:ext cx="1437480" cy="229680"/>
                  <a:chOff x="2088360" y="3666240"/>
                  <a:chExt cx="1437480" cy="22968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2109240" y="3673800"/>
                    <a:ext cx="139572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088360" y="3666240"/>
                    <a:ext cx="143748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0" name=""/>
              <p:cNvGrpSpPr/>
              <p:nvPr/>
            </p:nvGrpSpPr>
            <p:grpSpPr>
              <a:xfrm>
                <a:off x="3526920" y="3666240"/>
                <a:ext cx="1818720" cy="261000"/>
                <a:chOff x="3526920" y="3666240"/>
                <a:chExt cx="1818720" cy="2610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3526920" y="366624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2" name=""/>
                <p:cNvGrpSpPr/>
                <p:nvPr/>
              </p:nvGrpSpPr>
              <p:grpSpPr>
                <a:xfrm>
                  <a:off x="3526920" y="3666240"/>
                  <a:ext cx="1818360" cy="229680"/>
                  <a:chOff x="3526920" y="3666240"/>
                  <a:chExt cx="1818360" cy="2296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3547800" y="367380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3.68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3526920" y="366624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5" name=""/>
              <p:cNvGrpSpPr/>
              <p:nvPr/>
            </p:nvGrpSpPr>
            <p:grpSpPr>
              <a:xfrm>
                <a:off x="5346000" y="3666240"/>
                <a:ext cx="1818720" cy="261000"/>
                <a:chOff x="5346000" y="3666240"/>
                <a:chExt cx="1818720" cy="26100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346000" y="366624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5346000" y="3666240"/>
                  <a:ext cx="1818360" cy="229680"/>
                  <a:chOff x="5346000" y="3666240"/>
                  <a:chExt cx="1818360" cy="22968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5366880" y="367380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6.0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346000" y="366624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0" name=""/>
              <p:cNvGrpSpPr/>
              <p:nvPr/>
            </p:nvGrpSpPr>
            <p:grpSpPr>
              <a:xfrm>
                <a:off x="7165080" y="3666240"/>
                <a:ext cx="1820160" cy="261000"/>
                <a:chOff x="7165080" y="3666240"/>
                <a:chExt cx="1820160" cy="2610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7165080" y="366624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2" name=""/>
                <p:cNvGrpSpPr/>
                <p:nvPr/>
              </p:nvGrpSpPr>
              <p:grpSpPr>
                <a:xfrm>
                  <a:off x="7165080" y="3666240"/>
                  <a:ext cx="1819800" cy="229680"/>
                  <a:chOff x="7165080" y="3666240"/>
                  <a:chExt cx="1819800" cy="22968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7185960" y="3673800"/>
                    <a:ext cx="17780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8.7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165080" y="3666240"/>
                    <a:ext cx="181980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5" name=""/>
              <p:cNvGrpSpPr/>
              <p:nvPr/>
            </p:nvGrpSpPr>
            <p:grpSpPr>
              <a:xfrm>
                <a:off x="2088360" y="3911760"/>
                <a:ext cx="1437840" cy="261000"/>
                <a:chOff x="2088360" y="3911760"/>
                <a:chExt cx="1437840" cy="2610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088360" y="391176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7" name=""/>
                <p:cNvGrpSpPr/>
                <p:nvPr/>
              </p:nvGrpSpPr>
              <p:grpSpPr>
                <a:xfrm>
                  <a:off x="2088360" y="3911760"/>
                  <a:ext cx="1437480" cy="229320"/>
                  <a:chOff x="2088360" y="3911760"/>
                  <a:chExt cx="1437480" cy="22932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2109240" y="3919320"/>
                    <a:ext cx="139572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088360" y="391176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0" name=""/>
              <p:cNvGrpSpPr/>
              <p:nvPr/>
            </p:nvGrpSpPr>
            <p:grpSpPr>
              <a:xfrm>
                <a:off x="3526920" y="3911760"/>
                <a:ext cx="1818720" cy="261000"/>
                <a:chOff x="3526920" y="3911760"/>
                <a:chExt cx="1818720" cy="2610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526920" y="391176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3526920" y="3911760"/>
                  <a:ext cx="1818360" cy="229320"/>
                  <a:chOff x="3526920" y="3911760"/>
                  <a:chExt cx="1818360" cy="22932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3547800" y="391932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8,46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526920" y="391176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5" name=""/>
              <p:cNvGrpSpPr/>
              <p:nvPr/>
            </p:nvGrpSpPr>
            <p:grpSpPr>
              <a:xfrm>
                <a:off x="5346000" y="3911760"/>
                <a:ext cx="1818720" cy="261000"/>
                <a:chOff x="5346000" y="3911760"/>
                <a:chExt cx="1818720" cy="2610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346000" y="391176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7" name=""/>
                <p:cNvGrpSpPr/>
                <p:nvPr/>
              </p:nvGrpSpPr>
              <p:grpSpPr>
                <a:xfrm>
                  <a:off x="5346000" y="3911760"/>
                  <a:ext cx="1818360" cy="229320"/>
                  <a:chOff x="5346000" y="3911760"/>
                  <a:chExt cx="1818360" cy="22932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5366880" y="391932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3,29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5346000" y="391176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0" name=""/>
              <p:cNvGrpSpPr/>
              <p:nvPr/>
            </p:nvGrpSpPr>
            <p:grpSpPr>
              <a:xfrm>
                <a:off x="7165080" y="3911760"/>
                <a:ext cx="1820160" cy="261000"/>
                <a:chOff x="7165080" y="3911760"/>
                <a:chExt cx="1820160" cy="2610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165080" y="391176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7165080" y="3911760"/>
                  <a:ext cx="1819800" cy="229320"/>
                  <a:chOff x="7165080" y="3911760"/>
                  <a:chExt cx="1819800" cy="22932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7185960" y="3919320"/>
                    <a:ext cx="17780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8,92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7165080" y="391176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5" name=""/>
              <p:cNvGrpSpPr/>
              <p:nvPr/>
            </p:nvGrpSpPr>
            <p:grpSpPr>
              <a:xfrm>
                <a:off x="309960" y="4157280"/>
                <a:ext cx="1778040" cy="474840"/>
                <a:chOff x="309960" y="4157280"/>
                <a:chExt cx="1778040" cy="4748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09960" y="415728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09960" y="4157280"/>
                  <a:ext cx="1777680" cy="474840"/>
                  <a:chOff x="309960" y="4157280"/>
                  <a:chExt cx="1777680" cy="47484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30840" y="4164840"/>
                    <a:ext cx="1735920" cy="45936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Lima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09960" y="415728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0" name=""/>
              <p:cNvGrpSpPr/>
              <p:nvPr/>
            </p:nvGrpSpPr>
            <p:grpSpPr>
              <a:xfrm>
                <a:off x="2088360" y="4157280"/>
                <a:ext cx="1437840" cy="261000"/>
                <a:chOff x="2088360" y="4157280"/>
                <a:chExt cx="1437840" cy="2610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88360" y="415728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2" name=""/>
                <p:cNvGrpSpPr/>
                <p:nvPr/>
              </p:nvGrpSpPr>
              <p:grpSpPr>
                <a:xfrm>
                  <a:off x="2088360" y="4157280"/>
                  <a:ext cx="1437480" cy="229320"/>
                  <a:chOff x="2088360" y="4157280"/>
                  <a:chExt cx="1437480" cy="22932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2109240" y="4164840"/>
                    <a:ext cx="139572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088360" y="415728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3526920" y="4157280"/>
                <a:ext cx="1818720" cy="261000"/>
                <a:chOff x="3526920" y="4157280"/>
                <a:chExt cx="1818720" cy="2610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3526920" y="415728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7" name=""/>
                <p:cNvGrpSpPr/>
                <p:nvPr/>
              </p:nvGrpSpPr>
              <p:grpSpPr>
                <a:xfrm>
                  <a:off x="3526920" y="4157280"/>
                  <a:ext cx="1818360" cy="229320"/>
                  <a:chOff x="3526920" y="4157280"/>
                  <a:chExt cx="1818360" cy="2293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3547800" y="416484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9.4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526920" y="415728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0" name=""/>
              <p:cNvGrpSpPr/>
              <p:nvPr/>
            </p:nvGrpSpPr>
            <p:grpSpPr>
              <a:xfrm>
                <a:off x="5346000" y="4157280"/>
                <a:ext cx="1818720" cy="261000"/>
                <a:chOff x="5346000" y="4157280"/>
                <a:chExt cx="1818720" cy="26100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5346000" y="415728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" name=""/>
                <p:cNvGrpSpPr/>
                <p:nvPr/>
              </p:nvGrpSpPr>
              <p:grpSpPr>
                <a:xfrm>
                  <a:off x="5346000" y="4157280"/>
                  <a:ext cx="1818360" cy="229320"/>
                  <a:chOff x="5346000" y="4157280"/>
                  <a:chExt cx="1818360" cy="2293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5366880" y="416484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3.54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346000" y="415728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5" name=""/>
              <p:cNvGrpSpPr/>
              <p:nvPr/>
            </p:nvGrpSpPr>
            <p:grpSpPr>
              <a:xfrm>
                <a:off x="7165080" y="4157280"/>
                <a:ext cx="1820160" cy="261000"/>
                <a:chOff x="7165080" y="4157280"/>
                <a:chExt cx="1820160" cy="2610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165080" y="415728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7165080" y="4157280"/>
                  <a:ext cx="1819800" cy="229320"/>
                  <a:chOff x="7165080" y="4157280"/>
                  <a:chExt cx="1819800" cy="2293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7185960" y="4164840"/>
                    <a:ext cx="17780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7.9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7165080" y="415728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0" name=""/>
              <p:cNvGrpSpPr/>
              <p:nvPr/>
            </p:nvGrpSpPr>
            <p:grpSpPr>
              <a:xfrm>
                <a:off x="2088360" y="4402440"/>
                <a:ext cx="1437840" cy="261000"/>
                <a:chOff x="2088360" y="4402440"/>
                <a:chExt cx="1437840" cy="2610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2088360" y="440244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2088360" y="4402440"/>
                  <a:ext cx="1437480" cy="229320"/>
                  <a:chOff x="2088360" y="4402440"/>
                  <a:chExt cx="1437480" cy="2293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2109240" y="4410000"/>
                    <a:ext cx="139572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088360" y="440244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3526920" y="4402440"/>
                <a:ext cx="1818720" cy="261000"/>
                <a:chOff x="3526920" y="4402440"/>
                <a:chExt cx="1818720" cy="2610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526920" y="440244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3526920" y="4402440"/>
                  <a:ext cx="1818360" cy="229320"/>
                  <a:chOff x="3526920" y="4402440"/>
                  <a:chExt cx="1818360" cy="22932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3547800" y="4410000"/>
                    <a:ext cx="17762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0,47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3526920" y="440244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0" name=""/>
              <p:cNvGrpSpPr/>
              <p:nvPr/>
            </p:nvGrpSpPr>
            <p:grpSpPr>
              <a:xfrm>
                <a:off x="5346000" y="4402440"/>
                <a:ext cx="1818720" cy="261000"/>
                <a:chOff x="5346000" y="4402440"/>
                <a:chExt cx="1818720" cy="2610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5346000" y="440244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5346000" y="4402440"/>
                  <a:ext cx="1818360" cy="229320"/>
                  <a:chOff x="5346000" y="4402440"/>
                  <a:chExt cx="1818360" cy="2293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5366880" y="4410000"/>
                    <a:ext cx="17762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8,97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5346000" y="440244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5" name=""/>
              <p:cNvGrpSpPr/>
              <p:nvPr/>
            </p:nvGrpSpPr>
            <p:grpSpPr>
              <a:xfrm>
                <a:off x="7165080" y="4402440"/>
                <a:ext cx="1820160" cy="261000"/>
                <a:chOff x="7165080" y="4402440"/>
                <a:chExt cx="1820160" cy="2610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7165080" y="440244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7" name=""/>
                <p:cNvGrpSpPr/>
                <p:nvPr/>
              </p:nvGrpSpPr>
              <p:grpSpPr>
                <a:xfrm>
                  <a:off x="7165080" y="4402440"/>
                  <a:ext cx="1819800" cy="229320"/>
                  <a:chOff x="7165080" y="4402440"/>
                  <a:chExt cx="1819800" cy="22932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7185960" y="4410000"/>
                    <a:ext cx="1778040" cy="21384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8,06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165080" y="440244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0" name=""/>
              <p:cNvGrpSpPr/>
              <p:nvPr/>
            </p:nvGrpSpPr>
            <p:grpSpPr>
              <a:xfrm>
                <a:off x="309960" y="4647960"/>
                <a:ext cx="1778040" cy="474840"/>
                <a:chOff x="309960" y="4647960"/>
                <a:chExt cx="1778040" cy="47484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309960" y="464796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2" name=""/>
                <p:cNvGrpSpPr/>
                <p:nvPr/>
              </p:nvGrpSpPr>
              <p:grpSpPr>
                <a:xfrm>
                  <a:off x="309960" y="4647960"/>
                  <a:ext cx="1777680" cy="474840"/>
                  <a:chOff x="309960" y="4647960"/>
                  <a:chExt cx="1777680" cy="47484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330840" y="465552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arkersburg-Marietta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09960" y="464796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2088360" y="4647960"/>
                <a:ext cx="1437840" cy="261000"/>
                <a:chOff x="2088360" y="4647960"/>
                <a:chExt cx="1437840" cy="2610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2088360" y="464796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2088360" y="4647960"/>
                  <a:ext cx="1437480" cy="229680"/>
                  <a:chOff x="2088360" y="4647960"/>
                  <a:chExt cx="1437480" cy="22968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2109240" y="4655520"/>
                    <a:ext cx="139572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088360" y="4647960"/>
                    <a:ext cx="143748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0" name=""/>
              <p:cNvGrpSpPr/>
              <p:nvPr/>
            </p:nvGrpSpPr>
            <p:grpSpPr>
              <a:xfrm>
                <a:off x="3526920" y="4647960"/>
                <a:ext cx="1818720" cy="261000"/>
                <a:chOff x="3526920" y="4647960"/>
                <a:chExt cx="1818720" cy="2610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526920" y="464796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3526920" y="4647960"/>
                  <a:ext cx="1818360" cy="229680"/>
                  <a:chOff x="3526920" y="4647960"/>
                  <a:chExt cx="1818360" cy="2296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3547800" y="465552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3.5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3526920" y="464796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5" name=""/>
              <p:cNvGrpSpPr/>
              <p:nvPr/>
            </p:nvGrpSpPr>
            <p:grpSpPr>
              <a:xfrm>
                <a:off x="5346000" y="4647960"/>
                <a:ext cx="1818720" cy="261000"/>
                <a:chOff x="5346000" y="4647960"/>
                <a:chExt cx="1818720" cy="2610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5346000" y="464796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"/>
                <p:cNvGrpSpPr/>
                <p:nvPr/>
              </p:nvGrpSpPr>
              <p:grpSpPr>
                <a:xfrm>
                  <a:off x="5346000" y="4647960"/>
                  <a:ext cx="1818360" cy="229680"/>
                  <a:chOff x="5346000" y="4647960"/>
                  <a:chExt cx="1818360" cy="22968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5366880" y="465552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4.35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346000" y="464796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7165080" y="4647960"/>
                <a:ext cx="1820160" cy="261000"/>
                <a:chOff x="7165080" y="4647960"/>
                <a:chExt cx="1820160" cy="2610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7165080" y="464796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2" name=""/>
                <p:cNvGrpSpPr/>
                <p:nvPr/>
              </p:nvGrpSpPr>
              <p:grpSpPr>
                <a:xfrm>
                  <a:off x="7165080" y="4647960"/>
                  <a:ext cx="1819800" cy="229680"/>
                  <a:chOff x="7165080" y="4647960"/>
                  <a:chExt cx="1819800" cy="22968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7185960" y="4655520"/>
                    <a:ext cx="17780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7.2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165080" y="4647960"/>
                    <a:ext cx="181980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5" name=""/>
              <p:cNvGrpSpPr/>
              <p:nvPr/>
            </p:nvGrpSpPr>
            <p:grpSpPr>
              <a:xfrm>
                <a:off x="2088360" y="4893480"/>
                <a:ext cx="1437840" cy="261000"/>
                <a:chOff x="2088360" y="4893480"/>
                <a:chExt cx="1437840" cy="2610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2088360" y="489348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7" name=""/>
                <p:cNvGrpSpPr/>
                <p:nvPr/>
              </p:nvGrpSpPr>
              <p:grpSpPr>
                <a:xfrm>
                  <a:off x="2088360" y="4893480"/>
                  <a:ext cx="1437480" cy="229320"/>
                  <a:chOff x="2088360" y="4893480"/>
                  <a:chExt cx="1437480" cy="2293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2109240" y="4901040"/>
                    <a:ext cx="139572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088360" y="489348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"/>
              <p:cNvGrpSpPr/>
              <p:nvPr/>
            </p:nvGrpSpPr>
            <p:grpSpPr>
              <a:xfrm>
                <a:off x="3526920" y="4893480"/>
                <a:ext cx="1818720" cy="261000"/>
                <a:chOff x="3526920" y="4893480"/>
                <a:chExt cx="1818720" cy="2610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3526920" y="489348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3526920" y="4893480"/>
                  <a:ext cx="1818360" cy="229320"/>
                  <a:chOff x="3526920" y="4893480"/>
                  <a:chExt cx="1818360" cy="22932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3547800" y="490104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8,08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3526920" y="489348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5" name=""/>
              <p:cNvGrpSpPr/>
              <p:nvPr/>
            </p:nvGrpSpPr>
            <p:grpSpPr>
              <a:xfrm>
                <a:off x="5346000" y="4893480"/>
                <a:ext cx="1818720" cy="261000"/>
                <a:chOff x="5346000" y="4893480"/>
                <a:chExt cx="1818720" cy="26100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5346000" y="489348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7" name=""/>
                <p:cNvGrpSpPr/>
                <p:nvPr/>
              </p:nvGrpSpPr>
              <p:grpSpPr>
                <a:xfrm>
                  <a:off x="5346000" y="4893480"/>
                  <a:ext cx="1818360" cy="229320"/>
                  <a:chOff x="5346000" y="4893480"/>
                  <a:chExt cx="1818360" cy="22932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5366880" y="490104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9,84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5346000" y="489348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0" name=""/>
              <p:cNvGrpSpPr/>
              <p:nvPr/>
            </p:nvGrpSpPr>
            <p:grpSpPr>
              <a:xfrm>
                <a:off x="7165080" y="4893480"/>
                <a:ext cx="1820160" cy="261000"/>
                <a:chOff x="7165080" y="4893480"/>
                <a:chExt cx="1820160" cy="2610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7165080" y="489348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2" name=""/>
                <p:cNvGrpSpPr/>
                <p:nvPr/>
              </p:nvGrpSpPr>
              <p:grpSpPr>
                <a:xfrm>
                  <a:off x="7165080" y="4893480"/>
                  <a:ext cx="1819800" cy="229320"/>
                  <a:chOff x="7165080" y="4893480"/>
                  <a:chExt cx="1819800" cy="229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7185960" y="4901040"/>
                    <a:ext cx="17780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5,96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7165080" y="489348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309960" y="5139000"/>
                <a:ext cx="1778040" cy="474840"/>
                <a:chOff x="309960" y="5139000"/>
                <a:chExt cx="1778040" cy="4748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309960" y="513900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7" name=""/>
                <p:cNvGrpSpPr/>
                <p:nvPr/>
              </p:nvGrpSpPr>
              <p:grpSpPr>
                <a:xfrm>
                  <a:off x="309960" y="5139000"/>
                  <a:ext cx="1777680" cy="474840"/>
                  <a:chOff x="309960" y="5139000"/>
                  <a:chExt cx="1777680" cy="47484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>
                    <a:off x="330840" y="514656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Toled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09960" y="513900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0" name=""/>
              <p:cNvGrpSpPr/>
              <p:nvPr/>
            </p:nvGrpSpPr>
            <p:grpSpPr>
              <a:xfrm>
                <a:off x="2088360" y="5139000"/>
                <a:ext cx="1437840" cy="261000"/>
                <a:chOff x="2088360" y="5139000"/>
                <a:chExt cx="1437840" cy="2610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2088360" y="513900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2" name=""/>
                <p:cNvGrpSpPr/>
                <p:nvPr/>
              </p:nvGrpSpPr>
              <p:grpSpPr>
                <a:xfrm>
                  <a:off x="2088360" y="5139000"/>
                  <a:ext cx="1437480" cy="229320"/>
                  <a:chOff x="2088360" y="5139000"/>
                  <a:chExt cx="1437480" cy="22932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2109240" y="5146560"/>
                    <a:ext cx="139572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088360" y="513900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5" name=""/>
              <p:cNvGrpSpPr/>
              <p:nvPr/>
            </p:nvGrpSpPr>
            <p:grpSpPr>
              <a:xfrm>
                <a:off x="3526920" y="5139000"/>
                <a:ext cx="1818720" cy="261000"/>
                <a:chOff x="3526920" y="5139000"/>
                <a:chExt cx="1818720" cy="2610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526920" y="513900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7" name=""/>
                <p:cNvGrpSpPr/>
                <p:nvPr/>
              </p:nvGrpSpPr>
              <p:grpSpPr>
                <a:xfrm>
                  <a:off x="3526920" y="5139000"/>
                  <a:ext cx="1818360" cy="229320"/>
                  <a:chOff x="3526920" y="5139000"/>
                  <a:chExt cx="1818360" cy="22932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>
                    <a:off x="3547800" y="514656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7.75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3526920" y="513900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0" name=""/>
              <p:cNvGrpSpPr/>
              <p:nvPr/>
            </p:nvGrpSpPr>
            <p:grpSpPr>
              <a:xfrm>
                <a:off x="5346000" y="5139000"/>
                <a:ext cx="1818720" cy="261000"/>
                <a:chOff x="5346000" y="5139000"/>
                <a:chExt cx="1818720" cy="2610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346000" y="513900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2" name=""/>
                <p:cNvGrpSpPr/>
                <p:nvPr/>
              </p:nvGrpSpPr>
              <p:grpSpPr>
                <a:xfrm>
                  <a:off x="5346000" y="5139000"/>
                  <a:ext cx="1818360" cy="229320"/>
                  <a:chOff x="5346000" y="5139000"/>
                  <a:chExt cx="1818360" cy="22932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5366880" y="514656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1.2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5346000" y="513900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5" name=""/>
              <p:cNvGrpSpPr/>
              <p:nvPr/>
            </p:nvGrpSpPr>
            <p:grpSpPr>
              <a:xfrm>
                <a:off x="7165080" y="5139000"/>
                <a:ext cx="1820160" cy="261000"/>
                <a:chOff x="7165080" y="5139000"/>
                <a:chExt cx="1820160" cy="2610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7165080" y="513900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"/>
                <p:cNvGrpSpPr/>
                <p:nvPr/>
              </p:nvGrpSpPr>
              <p:grpSpPr>
                <a:xfrm>
                  <a:off x="7165080" y="5139000"/>
                  <a:ext cx="1819800" cy="229320"/>
                  <a:chOff x="7165080" y="5139000"/>
                  <a:chExt cx="1819800" cy="22932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7185960" y="5146560"/>
                    <a:ext cx="17780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5.6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165080" y="513900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0" name=""/>
              <p:cNvGrpSpPr/>
              <p:nvPr/>
            </p:nvGrpSpPr>
            <p:grpSpPr>
              <a:xfrm>
                <a:off x="2088360" y="5384520"/>
                <a:ext cx="1437840" cy="261000"/>
                <a:chOff x="2088360" y="5384520"/>
                <a:chExt cx="1437840" cy="2610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2088360" y="538452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2" name=""/>
                <p:cNvGrpSpPr/>
                <p:nvPr/>
              </p:nvGrpSpPr>
              <p:grpSpPr>
                <a:xfrm>
                  <a:off x="2088360" y="5384520"/>
                  <a:ext cx="1437480" cy="229320"/>
                  <a:chOff x="2088360" y="5384520"/>
                  <a:chExt cx="1437480" cy="22932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2109240" y="5392080"/>
                    <a:ext cx="139572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088360" y="538452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5" name=""/>
              <p:cNvGrpSpPr/>
              <p:nvPr/>
            </p:nvGrpSpPr>
            <p:grpSpPr>
              <a:xfrm>
                <a:off x="3526920" y="5384520"/>
                <a:ext cx="1818720" cy="261000"/>
                <a:chOff x="3526920" y="5384520"/>
                <a:chExt cx="1818720" cy="26100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3526920" y="538452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7" name=""/>
                <p:cNvGrpSpPr/>
                <p:nvPr/>
              </p:nvGrpSpPr>
              <p:grpSpPr>
                <a:xfrm>
                  <a:off x="3526920" y="5384520"/>
                  <a:ext cx="1818360" cy="229320"/>
                  <a:chOff x="3526920" y="5384520"/>
                  <a:chExt cx="1818360" cy="2293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3547800" y="539208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6,93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526920" y="53845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5346000" y="5384520"/>
                <a:ext cx="1818720" cy="261000"/>
                <a:chOff x="5346000" y="5384520"/>
                <a:chExt cx="1818720" cy="2610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5346000" y="538452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5346000" y="5384520"/>
                  <a:ext cx="1818360" cy="229320"/>
                  <a:chOff x="5346000" y="5384520"/>
                  <a:chExt cx="1818360" cy="22932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>
                    <a:off x="5366880" y="539208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4,28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5346000" y="53845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5" name=""/>
              <p:cNvGrpSpPr/>
              <p:nvPr/>
            </p:nvGrpSpPr>
            <p:grpSpPr>
              <a:xfrm>
                <a:off x="7165080" y="5384520"/>
                <a:ext cx="1820160" cy="261000"/>
                <a:chOff x="7165080" y="5384520"/>
                <a:chExt cx="1820160" cy="2610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7165080" y="538452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7165080" y="5384520"/>
                  <a:ext cx="1819800" cy="229320"/>
                  <a:chOff x="7165080" y="5384520"/>
                  <a:chExt cx="1819800" cy="22932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7185960" y="5392080"/>
                    <a:ext cx="17780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3,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7165080" y="538452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0" name=""/>
              <p:cNvGrpSpPr/>
              <p:nvPr/>
            </p:nvGrpSpPr>
            <p:grpSpPr>
              <a:xfrm>
                <a:off x="309960" y="5629680"/>
                <a:ext cx="1778040" cy="474840"/>
                <a:chOff x="309960" y="5629680"/>
                <a:chExt cx="1778040" cy="4748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09960" y="562968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2" name=""/>
                <p:cNvGrpSpPr/>
                <p:nvPr/>
              </p:nvGrpSpPr>
              <p:grpSpPr>
                <a:xfrm>
                  <a:off x="309960" y="5629680"/>
                  <a:ext cx="1777680" cy="474840"/>
                  <a:chOff x="309960" y="5629680"/>
                  <a:chExt cx="1777680" cy="47484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>
                    <a:off x="330840" y="563724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    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oungstow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09960" y="562968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5" name=""/>
              <p:cNvGrpSpPr/>
              <p:nvPr/>
            </p:nvGrpSpPr>
            <p:grpSpPr>
              <a:xfrm>
                <a:off x="2088360" y="5629680"/>
                <a:ext cx="1437840" cy="261000"/>
                <a:chOff x="2088360" y="5629680"/>
                <a:chExt cx="1437840" cy="26100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2088360" y="562968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2088360" y="5629680"/>
                  <a:ext cx="1437480" cy="229680"/>
                  <a:chOff x="2088360" y="5629680"/>
                  <a:chExt cx="1437480" cy="22968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2109240" y="5637240"/>
                    <a:ext cx="139572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088360" y="5629680"/>
                    <a:ext cx="143748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3526920" y="5629680"/>
                <a:ext cx="1818720" cy="261000"/>
                <a:chOff x="3526920" y="5629680"/>
                <a:chExt cx="1818720" cy="2610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526920" y="562968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2" name=""/>
                <p:cNvGrpSpPr/>
                <p:nvPr/>
              </p:nvGrpSpPr>
              <p:grpSpPr>
                <a:xfrm>
                  <a:off x="3526920" y="5629680"/>
                  <a:ext cx="1818360" cy="229680"/>
                  <a:chOff x="3526920" y="5629680"/>
                  <a:chExt cx="1818360" cy="22968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3547800" y="563724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0.8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3526920" y="562968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5" name=""/>
              <p:cNvGrpSpPr/>
              <p:nvPr/>
            </p:nvGrpSpPr>
            <p:grpSpPr>
              <a:xfrm>
                <a:off x="5346000" y="5629680"/>
                <a:ext cx="1818720" cy="261000"/>
                <a:chOff x="5346000" y="5629680"/>
                <a:chExt cx="1818720" cy="2610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346000" y="562968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7" name=""/>
                <p:cNvGrpSpPr/>
                <p:nvPr/>
              </p:nvGrpSpPr>
              <p:grpSpPr>
                <a:xfrm>
                  <a:off x="5346000" y="5629680"/>
                  <a:ext cx="1818360" cy="229680"/>
                  <a:chOff x="5346000" y="5629680"/>
                  <a:chExt cx="1818360" cy="2296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5366880" y="5637240"/>
                    <a:ext cx="17762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4.1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5346000" y="5629680"/>
                    <a:ext cx="181836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0" name=""/>
              <p:cNvGrpSpPr/>
              <p:nvPr/>
            </p:nvGrpSpPr>
            <p:grpSpPr>
              <a:xfrm>
                <a:off x="7165080" y="5629680"/>
                <a:ext cx="1820160" cy="261000"/>
                <a:chOff x="7165080" y="5629680"/>
                <a:chExt cx="1820160" cy="2610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7165080" y="562968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2" name=""/>
                <p:cNvGrpSpPr/>
                <p:nvPr/>
              </p:nvGrpSpPr>
              <p:grpSpPr>
                <a:xfrm>
                  <a:off x="7165080" y="5629680"/>
                  <a:ext cx="1819800" cy="229680"/>
                  <a:chOff x="7165080" y="5629680"/>
                  <a:chExt cx="1819800" cy="22968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7185960" y="5637240"/>
                    <a:ext cx="1778040" cy="21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6.88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7165080" y="5629680"/>
                    <a:ext cx="1819800" cy="229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5" name=""/>
              <p:cNvGrpSpPr/>
              <p:nvPr/>
            </p:nvGrpSpPr>
            <p:grpSpPr>
              <a:xfrm>
                <a:off x="2088360" y="5875200"/>
                <a:ext cx="1437840" cy="261000"/>
                <a:chOff x="2088360" y="5875200"/>
                <a:chExt cx="1437840" cy="26100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2088360" y="5875200"/>
                  <a:ext cx="143784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7" name=""/>
                <p:cNvGrpSpPr/>
                <p:nvPr/>
              </p:nvGrpSpPr>
              <p:grpSpPr>
                <a:xfrm>
                  <a:off x="2088360" y="5875200"/>
                  <a:ext cx="1437480" cy="229320"/>
                  <a:chOff x="2088360" y="5875200"/>
                  <a:chExt cx="1437480" cy="22932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2109240" y="5882760"/>
                    <a:ext cx="139572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2088360" y="587520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0" name=""/>
              <p:cNvGrpSpPr/>
              <p:nvPr/>
            </p:nvGrpSpPr>
            <p:grpSpPr>
              <a:xfrm>
                <a:off x="3526920" y="5875200"/>
                <a:ext cx="1818720" cy="261000"/>
                <a:chOff x="3526920" y="5875200"/>
                <a:chExt cx="1818720" cy="26100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3526920" y="587520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2" name=""/>
                <p:cNvGrpSpPr/>
                <p:nvPr/>
              </p:nvGrpSpPr>
              <p:grpSpPr>
                <a:xfrm>
                  <a:off x="3526920" y="5875200"/>
                  <a:ext cx="1818360" cy="229320"/>
                  <a:chOff x="3526920" y="5875200"/>
                  <a:chExt cx="1818360" cy="22932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>
                    <a:off x="3547800" y="588276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43,38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3526920" y="587520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5" name=""/>
              <p:cNvGrpSpPr/>
              <p:nvPr/>
            </p:nvGrpSpPr>
            <p:grpSpPr>
              <a:xfrm>
                <a:off x="5346000" y="5875200"/>
                <a:ext cx="1818720" cy="261000"/>
                <a:chOff x="5346000" y="5875200"/>
                <a:chExt cx="1818720" cy="26100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5346000" y="5875200"/>
                  <a:ext cx="181872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7" name=""/>
                <p:cNvGrpSpPr/>
                <p:nvPr/>
              </p:nvGrpSpPr>
              <p:grpSpPr>
                <a:xfrm>
                  <a:off x="5346000" y="5875200"/>
                  <a:ext cx="1818360" cy="229320"/>
                  <a:chOff x="5346000" y="5875200"/>
                  <a:chExt cx="1818360" cy="22932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5366880" y="5882760"/>
                    <a:ext cx="17762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0,32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5346000" y="587520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0" name=""/>
              <p:cNvGrpSpPr/>
              <p:nvPr/>
            </p:nvGrpSpPr>
            <p:grpSpPr>
              <a:xfrm>
                <a:off x="7165080" y="5875200"/>
                <a:ext cx="1820160" cy="261000"/>
                <a:chOff x="7165080" y="5875200"/>
                <a:chExt cx="1820160" cy="26100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7165080" y="5875200"/>
                  <a:ext cx="1820160" cy="26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2" name=""/>
                <p:cNvGrpSpPr/>
                <p:nvPr/>
              </p:nvGrpSpPr>
              <p:grpSpPr>
                <a:xfrm>
                  <a:off x="7165080" y="5875200"/>
                  <a:ext cx="1819800" cy="229320"/>
                  <a:chOff x="7165080" y="5875200"/>
                  <a:chExt cx="1819800" cy="22932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7185960" y="5882760"/>
                    <a:ext cx="1778040" cy="21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55,91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7165080" y="587520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5" name=""/>
              <p:cNvGrpSpPr/>
              <p:nvPr/>
            </p:nvGrpSpPr>
            <p:grpSpPr>
              <a:xfrm>
                <a:off x="309960" y="6120720"/>
                <a:ext cx="1778040" cy="474840"/>
                <a:chOff x="309960" y="6120720"/>
                <a:chExt cx="1778040" cy="47484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309960" y="6120720"/>
                  <a:ext cx="1778040" cy="261000"/>
                </a:xfrm>
                <a:prstGeom prst="rect">
                  <a:avLst/>
                </a:prstGeom>
                <a:solidFill>
                  <a:srgbClr val="9ba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7" name=""/>
                <p:cNvGrpSpPr/>
                <p:nvPr/>
              </p:nvGrpSpPr>
              <p:grpSpPr>
                <a:xfrm>
                  <a:off x="309960" y="6120720"/>
                  <a:ext cx="1777680" cy="474840"/>
                  <a:chOff x="309960" y="6120720"/>
                  <a:chExt cx="1777680" cy="47484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>
                    <a:off x="330840" y="6128280"/>
                    <a:ext cx="1735920" cy="459000"/>
                  </a:xfrm>
                  <a:prstGeom prst="rect">
                    <a:avLst/>
                  </a:prstGeom>
                  <a:solidFill>
                    <a:srgbClr val="9ba0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United State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309960" y="6120720"/>
                    <a:ext cx="17776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0" name=""/>
              <p:cNvGrpSpPr/>
              <p:nvPr/>
            </p:nvGrpSpPr>
            <p:grpSpPr>
              <a:xfrm>
                <a:off x="2088360" y="6120720"/>
                <a:ext cx="1437840" cy="261000"/>
                <a:chOff x="2088360" y="6120720"/>
                <a:chExt cx="1437840" cy="26100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088360" y="612072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2" name=""/>
                <p:cNvGrpSpPr/>
                <p:nvPr/>
              </p:nvGrpSpPr>
              <p:grpSpPr>
                <a:xfrm>
                  <a:off x="2088360" y="6120720"/>
                  <a:ext cx="1437480" cy="229320"/>
                  <a:chOff x="2088360" y="6120720"/>
                  <a:chExt cx="1437480" cy="22932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2109240" y="6128280"/>
                    <a:ext cx="139572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Hou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088360" y="612072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5" name=""/>
              <p:cNvGrpSpPr/>
              <p:nvPr/>
            </p:nvGrpSpPr>
            <p:grpSpPr>
              <a:xfrm>
                <a:off x="3526920" y="6120720"/>
                <a:ext cx="1818720" cy="261000"/>
                <a:chOff x="3526920" y="6120720"/>
                <a:chExt cx="1818720" cy="26100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3526920" y="612072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7" name=""/>
                <p:cNvGrpSpPr/>
                <p:nvPr/>
              </p:nvGrpSpPr>
              <p:grpSpPr>
                <a:xfrm>
                  <a:off x="3526920" y="6120720"/>
                  <a:ext cx="1818360" cy="229320"/>
                  <a:chOff x="3526920" y="6120720"/>
                  <a:chExt cx="1818360" cy="22932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>
                    <a:off x="3547800" y="612828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17.5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3526920" y="61207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0" name=""/>
              <p:cNvGrpSpPr/>
              <p:nvPr/>
            </p:nvGrpSpPr>
            <p:grpSpPr>
              <a:xfrm>
                <a:off x="5346000" y="6120720"/>
                <a:ext cx="1818720" cy="261000"/>
                <a:chOff x="5346000" y="6120720"/>
                <a:chExt cx="1818720" cy="26100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346000" y="612072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2" name=""/>
                <p:cNvGrpSpPr/>
                <p:nvPr/>
              </p:nvGrpSpPr>
              <p:grpSpPr>
                <a:xfrm>
                  <a:off x="5346000" y="6120720"/>
                  <a:ext cx="1818360" cy="229320"/>
                  <a:chOff x="5346000" y="6120720"/>
                  <a:chExt cx="1818360" cy="22932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>
                    <a:off x="5366880" y="612828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22.69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5346000" y="612072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5" name=""/>
              <p:cNvGrpSpPr/>
              <p:nvPr/>
            </p:nvGrpSpPr>
            <p:grpSpPr>
              <a:xfrm>
                <a:off x="7165080" y="6120720"/>
                <a:ext cx="1820160" cy="261000"/>
                <a:chOff x="7165080" y="6120720"/>
                <a:chExt cx="1820160" cy="26100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7165080" y="612072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7" name=""/>
                <p:cNvGrpSpPr/>
                <p:nvPr/>
              </p:nvGrpSpPr>
              <p:grpSpPr>
                <a:xfrm>
                  <a:off x="7165080" y="6120720"/>
                  <a:ext cx="1819800" cy="229320"/>
                  <a:chOff x="7165080" y="6120720"/>
                  <a:chExt cx="1819800" cy="22932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7185960" y="6128280"/>
                    <a:ext cx="17780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0.2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7165080" y="612072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0" name=""/>
              <p:cNvGrpSpPr/>
              <p:nvPr/>
            </p:nvGrpSpPr>
            <p:grpSpPr>
              <a:xfrm>
                <a:off x="2088360" y="6366240"/>
                <a:ext cx="1437840" cy="261000"/>
                <a:chOff x="2088360" y="6366240"/>
                <a:chExt cx="1437840" cy="26100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2088360" y="6366240"/>
                  <a:ext cx="143784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2" name=""/>
                <p:cNvGrpSpPr/>
                <p:nvPr/>
              </p:nvGrpSpPr>
              <p:grpSpPr>
                <a:xfrm>
                  <a:off x="2088360" y="6366240"/>
                  <a:ext cx="1437480" cy="229320"/>
                  <a:chOff x="2088360" y="6366240"/>
                  <a:chExt cx="1437480" cy="22932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2109240" y="6373800"/>
                    <a:ext cx="139572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Yearl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088360" y="6366240"/>
                    <a:ext cx="143748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5" name=""/>
              <p:cNvGrpSpPr/>
              <p:nvPr/>
            </p:nvGrpSpPr>
            <p:grpSpPr>
              <a:xfrm>
                <a:off x="3526920" y="6366240"/>
                <a:ext cx="1818720" cy="261000"/>
                <a:chOff x="3526920" y="6366240"/>
                <a:chExt cx="1818720" cy="26100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3526920" y="636624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7" name=""/>
                <p:cNvGrpSpPr/>
                <p:nvPr/>
              </p:nvGrpSpPr>
              <p:grpSpPr>
                <a:xfrm>
                  <a:off x="3526920" y="6366240"/>
                  <a:ext cx="1818360" cy="229320"/>
                  <a:chOff x="3526920" y="6366240"/>
                  <a:chExt cx="1818360" cy="22932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3547800" y="637380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36,44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3526920" y="636624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0" name=""/>
              <p:cNvGrpSpPr/>
              <p:nvPr/>
            </p:nvGrpSpPr>
            <p:grpSpPr>
              <a:xfrm>
                <a:off x="5346000" y="6366240"/>
                <a:ext cx="1818720" cy="261000"/>
                <a:chOff x="5346000" y="6366240"/>
                <a:chExt cx="1818720" cy="26100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5346000" y="6366240"/>
                  <a:ext cx="181872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2" name=""/>
                <p:cNvGrpSpPr/>
                <p:nvPr/>
              </p:nvGrpSpPr>
              <p:grpSpPr>
                <a:xfrm>
                  <a:off x="5346000" y="6366240"/>
                  <a:ext cx="1818360" cy="229320"/>
                  <a:chOff x="5346000" y="6366240"/>
                  <a:chExt cx="1818360" cy="2293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5366880" y="6373800"/>
                    <a:ext cx="17762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ffff00"/>
                        </a:solidFill>
                        <a:latin typeface="Verdana"/>
                        <a:ea typeface="Times New Roman"/>
                      </a:rPr>
                      <a:t>$47,2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5346000" y="6366240"/>
                    <a:ext cx="181836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5" name=""/>
              <p:cNvGrpSpPr/>
              <p:nvPr/>
            </p:nvGrpSpPr>
            <p:grpSpPr>
              <a:xfrm>
                <a:off x="7165080" y="6366240"/>
                <a:ext cx="1820160" cy="261000"/>
                <a:chOff x="7165080" y="6366240"/>
                <a:chExt cx="1820160" cy="26100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7165080" y="6366240"/>
                  <a:ext cx="1820160" cy="261000"/>
                </a:xfrm>
                <a:prstGeom prst="rect">
                  <a:avLst/>
                </a:prstGeom>
                <a:solidFill>
                  <a:srgbClr val="c7ca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7165080" y="6366240"/>
                  <a:ext cx="1819800" cy="229320"/>
                  <a:chOff x="7165080" y="6366240"/>
                  <a:chExt cx="1819800" cy="2293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7185960" y="6373800"/>
                    <a:ext cx="1778040" cy="213480"/>
                  </a:xfrm>
                  <a:prstGeom prst="rect">
                    <a:avLst/>
                  </a:prstGeom>
                  <a:solidFill>
                    <a:srgbClr val="c7ca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$62,82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7165080" y="6366240"/>
                    <a:ext cx="1819800" cy="229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20" name=""/>
            <p:cNvSpPr/>
            <p:nvPr/>
          </p:nvSpPr>
          <p:spPr>
            <a:xfrm>
              <a:off x="304920" y="228600"/>
              <a:ext cx="8686440" cy="6400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6553080" y="6492960"/>
            <a:ext cx="236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ttp://ocis.ode.state.oh.us/info2.aspx?FileID=Occ&amp;FileNum=100162&amp;TopicNum=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4:08:53Z</dcterms:created>
  <dc:creator>Southeast Local Schools</dc:creator>
  <dc:description/>
  <dc:language>en-US</dc:language>
  <cp:lastModifiedBy>Southeast Local Schools</cp:lastModifiedBy>
  <dcterms:modified xsi:type="dcterms:W3CDTF">2011-11-11T14:12:48Z</dcterms:modified>
  <cp:revision>7</cp:revision>
  <dc:subject/>
  <dc:title>PowerPoint Presentation</dc:title>
</cp:coreProperties>
</file>